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C53E-4AF9-4D1F-A09F-F62CD972FB2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049D-B281-485C-B816-EC5338605C2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56CF6-58A4-4D2C-972E-7DDDDF57AD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0CED4-EDC0-4572-BD41-335D70DF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1D552-7103-4B72-B77F-87A471F0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0E158-80FA-47E5-A964-0D2121CA79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79E5E-4BB4-405A-8547-39307941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0F4BB-5FC3-4279-9722-911CB284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90DF4-6C5E-4975-9B18-43A430D2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3A5F6-DD9F-474A-8891-BBDDEC986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AA309-EFDF-4487-917F-129C8C094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FE433-E3CE-458E-9910-7C0077E8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C984B-7C37-4464-90AD-87972A8F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F6B97-F9AA-404F-B0D0-E1430B9E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1AEC-9B92-464F-AA99-E191DE44A9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多发骨折伴休克，经扩容治疗后，神志未清醒，测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中心静脉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进一步的护理重点是什么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如何监测患者病情变化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/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先晶体后胶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复述休克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休克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休克辅助检查项目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休克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和防治感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照无菌技术原则执行各项护理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应用抗菌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、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口腔护理和留置尿管的护理，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意外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床单清洁、平整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患者将输液管道或引流管等拔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续原发疾病治疗或康复，加强对原发病观察，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引起休克疾病的预防，避免各种意外伤害的发生，学会受伤后的紧急救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休克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心排血量、动脉血气分析、动脉血乳酸盐含量等监测休克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机体受到强烈的致病因素侵袭后，导致有效循环血量锐减、组织血液灌流不足所引起的以微循环障碍、代谢障碍和细胞受损为特征的病理性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被汽车撞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急诊入院。患者浅昏迷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50/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立即查血常规、血型，紧急配血，给予双通道静脉输入平衡盐、代血浆，静滴止血药物等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侧肩胛骨、肱骨头粉碎性骨折，左侧髂骨翼、髋臼及股骨粗隆间粉碎性骨折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：腹腔内无实质脏器破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：未发现颅内血肿及脑挫裂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显著苍白，肢端发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28:06Z</dcterms:modified>
  <cp:revision>96</cp:revision>
  <dc:subject/>
  <dc:title>内科护理学</dc:title>
</cp:coreProperties>
</file>